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300-6B87-4ACA-91AD-6B61CE43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619-5D2B-4DA1-9E7B-8B110DD0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92E-DE00-43C3-AD91-437BF663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F19-D1D0-4D00-BBC6-3506F60C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6D8-EE68-4705-A391-EDCEB0A3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0A3-3423-4944-930C-F46A74E7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28C-82EC-4882-872F-C42CBF4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40F-1CE1-4DB4-B953-07A4DBED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1CB-D85C-4BBB-A104-F9BDB0BA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CA7-DECA-4294-A87B-510DFA8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17D-EC74-40EC-93F9-01132C6E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AED-4410-4E2E-96DA-4AA22C53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5EC2-6727-4AF8-A349-7EF9E389D2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1"/>
          <a:stretch/>
        </p:blipFill>
        <p:spPr>
          <a:xfrm>
            <a:off x="731880" y="993600"/>
            <a:ext cx="7839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11040" y="163368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-12600" y="4979880"/>
            <a:ext cx="7651800" cy="4636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901800" y="437688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890640" y="3591000"/>
            <a:ext cx="5473800" cy="792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884160" y="2766960"/>
            <a:ext cx="735192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463680" y="22622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2" descr=""/>
          <p:cNvPicPr/>
          <p:nvPr/>
        </p:nvPicPr>
        <p:blipFill>
          <a:blip r:embed="rId8"/>
          <a:stretch/>
        </p:blipFill>
        <p:spPr>
          <a:xfrm>
            <a:off x="6151680" y="3462480"/>
            <a:ext cx="2535120" cy="8046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9"/>
          <a:stretch/>
        </p:blipFill>
        <p:spPr>
          <a:xfrm>
            <a:off x="817560" y="554688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328680" y="1712880"/>
            <a:ext cx="4883040" cy="7984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3"/>
          <a:stretch/>
        </p:blipFill>
        <p:spPr>
          <a:xfrm>
            <a:off x="1944720" y="4286160"/>
            <a:ext cx="4741920" cy="461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579600" y="3359160"/>
            <a:ext cx="4741560" cy="7920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5"/>
          <a:stretch/>
        </p:blipFill>
        <p:spPr>
          <a:xfrm>
            <a:off x="895320" y="2346480"/>
            <a:ext cx="5475240" cy="7984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6" descr=""/>
          <p:cNvPicPr/>
          <p:nvPr/>
        </p:nvPicPr>
        <p:blipFill>
          <a:blip r:embed="rId6"/>
          <a:stretch/>
        </p:blipFill>
        <p:spPr>
          <a:xfrm>
            <a:off x="6035760" y="2346480"/>
            <a:ext cx="25351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353880" y="284004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3651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493560" y="25113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4"/>
          <a:stretch/>
        </p:blipFill>
        <p:spPr>
          <a:xfrm>
            <a:off x="914400" y="3365640"/>
            <a:ext cx="5467320" cy="7920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579600" y="4005360"/>
            <a:ext cx="4741560" cy="7920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4340160" y="4194000"/>
            <a:ext cx="4748400" cy="463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536400" y="5334120"/>
            <a:ext cx="474840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8"/>
          <a:stretch/>
        </p:blipFill>
        <p:spPr>
          <a:xfrm>
            <a:off x="890640" y="4834080"/>
            <a:ext cx="474192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9"/>
          <a:stretch/>
        </p:blipFill>
        <p:spPr>
          <a:xfrm>
            <a:off x="4309920" y="5510160"/>
            <a:ext cx="47419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328680" y="2000160"/>
            <a:ext cx="5608440" cy="7984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137440" cy="7938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5" descr=""/>
          <p:cNvPicPr/>
          <p:nvPr/>
        </p:nvPicPr>
        <p:blipFill>
          <a:blip r:embed="rId3"/>
          <a:stretch/>
        </p:blipFill>
        <p:spPr>
          <a:xfrm>
            <a:off x="6291360" y="2054160"/>
            <a:ext cx="2535120" cy="10908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4"/>
          <a:stretch/>
        </p:blipFill>
        <p:spPr>
          <a:xfrm>
            <a:off x="890640" y="3224160"/>
            <a:ext cx="547380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5"/>
          <a:stretch/>
        </p:blipFill>
        <p:spPr>
          <a:xfrm>
            <a:off x="878040" y="4376880"/>
            <a:ext cx="54734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6"/>
          <a:stretch/>
        </p:blipFill>
        <p:spPr>
          <a:xfrm>
            <a:off x="1835280" y="2567160"/>
            <a:ext cx="5467320" cy="4618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7"/>
          <a:stretch/>
        </p:blipFill>
        <p:spPr>
          <a:xfrm>
            <a:off x="1822320" y="3767040"/>
            <a:ext cx="5469120" cy="46368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8"/>
          <a:stretch/>
        </p:blipFill>
        <p:spPr>
          <a:xfrm>
            <a:off x="1378080" y="4943520"/>
            <a:ext cx="547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2" descr=""/>
          <p:cNvPicPr/>
          <p:nvPr/>
        </p:nvPicPr>
        <p:blipFill>
          <a:blip r:embed="rId1"/>
          <a:stretch/>
        </p:blipFill>
        <p:spPr>
          <a:xfrm>
            <a:off x="328680" y="2146320"/>
            <a:ext cx="5084640" cy="798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137440" cy="9334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3"/>
          <a:stretch/>
        </p:blipFill>
        <p:spPr>
          <a:xfrm>
            <a:off x="-573120" y="2736720"/>
            <a:ext cx="7523280" cy="86544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4"/>
          <a:stretch/>
        </p:blipFill>
        <p:spPr>
          <a:xfrm>
            <a:off x="-785880" y="3633840"/>
            <a:ext cx="752148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5"/>
          <a:stretch/>
        </p:blipFill>
        <p:spPr>
          <a:xfrm>
            <a:off x="-566640" y="4591080"/>
            <a:ext cx="7521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11:15Z</dcterms:created>
  <dc:creator/>
  <dc:description/>
  <dc:language>en-US</dc:language>
  <cp:lastModifiedBy/>
  <dcterms:modified xsi:type="dcterms:W3CDTF">2011-12-08T12:13:56Z</dcterms:modified>
  <cp:revision>1</cp:revision>
  <dc:subject/>
  <dc:title/>
</cp:coreProperties>
</file>